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8E8-0155-47F9-8A64-32E92C98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ECD-DE35-4D8F-BE3A-79AD7415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518-0D5D-4640-A9FA-416853FB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FBC-F966-4F0B-937A-F288306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0CEA-AAC3-41C2-854D-4AC4A4F4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0A5-794D-4D9E-831C-5649BE52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0EB-A5EA-4A5E-82FA-9DD7496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09F-7FD0-4F1C-AF4E-344C7BA9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170-FDD7-47B7-93DC-DB017147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DB9-7659-4907-AC90-411E1801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D32-D602-478A-8AA7-6E284BD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370-6301-433C-AC03-429B9965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B2CE-7F54-41A8-89F9-8923824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0AA3-69D6-4640-8C9D-301A79E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FF86-7BFA-428F-8592-E342674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2FE8-6E42-4F4E-8F32-297E6C8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8D3-3A59-46C5-8016-94FC3803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B45-2D60-4AB3-9246-DC52D2B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2D5-107B-4919-B69D-63D2BA61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968-EEB3-4930-BF87-2BCD5D5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D5C-D17C-4F95-818F-6D3232D1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244-804E-48F7-A7E1-A686F48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37A-EF73-4445-B3F9-3E212EE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AA3-05A4-4374-9F1F-2C270EE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363-85CF-45E5-93CC-CC13812A0B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6AC-64EC-4B51-97DC-84D8FFCC14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Исследовательская группа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«Землемеры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436640"/>
            <a:ext cx="77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ак соотносятся площади и периметры фигур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 есл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игура не является прямоугольнико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5545080" cy="2376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3200" y="4508640"/>
            <a:ext cx="8229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равновеликих фигур чем больше вершин, тем больше периме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Если периметр одного прямоугольника больше, то и его площадь больше, чем у други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Ели периметры прямоугольников равны, то площади могут быть различн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Из всех прямоугольников с равными периметрами наибольшую площадь имеет квадрат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У равновеликих фигур чем больше вершин, тем больше перимет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400320"/>
            <a:ext cx="896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Verdana"/>
              </a:rPr>
              <a:t>Цели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явить зависимость между периметрами фигур и их площадью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Verdana"/>
              </a:rPr>
              <a:t>Гипо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ем больше периметр, тем больше площадь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Что нужно выясн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свойства периметра и площади фигу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 связаны периметры и площади прямоугольник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ая фигура имеет наибольшую площадь при заданном периметр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единицы измерения площади используются для измерения земли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Мы знае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ериме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сумма длин всех сторон многоуголь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111640" cy="136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242100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лощадь фигур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величина, показывающая сколько места занимает фигура на плос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вные фигуры имеют равные площа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лощадь всей фигуры равна сумме площадей ее час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 единицу площади принимают площадь квадрата со стороной, равному единичному отрез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005360"/>
            <a:ext cx="294300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4292640"/>
            <a:ext cx="8229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Если у одой фигуры больше периметр, чем у второй, то ее площадь больше, меньше или по-разному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327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метили, если периметр одного прямоугольника больше, то и его площадь больше чем у друг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если периметры равны то площади могут быть различ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40360" y="4653000"/>
            <a:ext cx="475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 чего зависят площади прямоугольников, если их периметры равны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начала мы рассмотрим прямоуголь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4886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8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Какой из всех прямоугольников заданного периметра имеет наибольшую площадь?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шение этой задачи было известно ещё математикам Древней Греции. Оно изложено в книге Евклида, где доказывается, что, если рассмотреть прямоугольник и квадрат одного и того же периметра, то площадь квадрата будет больше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-17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284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з рисунка видно, чт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ибольшая площадь у прямоугольников, у которых длина равна ширине, то есть у квадра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начит, из всех прямоугольников с равными периметрами наибольшую площадь имеет квадр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5457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Как Пахом покупал зем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Задача Льва Толстого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 цена какая будет?- говорит Пах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а у нас одна: 1000 руб.за де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онял Пах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же это мер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де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в не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есяти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де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этого, - говорит, не умеем считать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 мы за день продаем: сколько обойдешь в день, то и твое, а цена дню 100 рублей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хочешь круг забирай, только до захода солнца приходи к тому месту, с какого взялся. Что обойдешь все тв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ой путь должен выбрать Пахом, чтобы получить большую площадь земл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740720" y="765000"/>
            <a:ext cx="7635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Какой путь должен выбрать Пахом, чтобы получить большую площадь земл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60483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еперь мы знаем, что Пахом должен идти по сторонам квадр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 какие еще есть единицы площад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05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Для измерения земли используются следующие единиц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рические единицы площа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квадратных метров – а (ар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ар = 100 м2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вадрат со стороной 100 метров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 (гектар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га = 10000 м2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еметрические единицы площад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4941720"/>
            <a:ext cx="72676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5:53:25Z</dcterms:created>
  <dc:creator>Admin</dc:creator>
  <dc:description/>
  <dc:language>en-US</dc:language>
  <cp:lastModifiedBy>Admin</cp:lastModifiedBy>
  <dcterms:modified xsi:type="dcterms:W3CDTF">2010-05-16T15:04:00Z</dcterms:modified>
  <cp:revision>4</cp:revision>
  <dc:subject/>
  <dc:title>Исследовательская группа «Землемеры»</dc:title>
</cp:coreProperties>
</file>